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829B-44C2-4068-9477-6312FB04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5B5-14BD-4D60-AC2B-B0A9C161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: vibrational (vibrate around a fixed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: vibrational and rotational (particles rotate and change pos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1B8-A01B-417C-946E-2F9F9922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static: oppositely charged particles attract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: particles are not charged but attractions can stil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olecular: between neutral molecules or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1215-8067-467A-865C-773203F2F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057-D6E9-4A6F-8F42-EB13C4F6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rticles take up hardly any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rticles do not attract one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llows us to make generalizations about real 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5E8-CFE0-463D-88F7-0F5AB6BD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C2E-3217-4CAB-8788-5F2E8FB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CDA-06AA-44B2-9BC6-A371944A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05A-5480-4FC5-9D13-8FD3BB47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CD9-0042-434F-835C-59F46BA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043-D4E8-4745-949A-6E96F53E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424-D36E-4448-AB64-E503AD3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4A5-925C-49EB-87A5-37E07684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577-7E50-4C9F-B9FD-634CDD0A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4B1-2321-4D24-9042-2BB6EF8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31C-D614-439E-9DAD-8665F0D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A38-FD3B-4C75-9216-EBED910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935-A454-4A18-988C-F31D36E6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Particle Theory and the Kinetic Molecular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ticle Theory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is made up of tiny particles (atoms, ions, molecules) that are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cles have spaces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 particle diagrams to describe and compare the relative spacing of particles in solids, liquids and g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Remember the two “other states” as per not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4495680"/>
          <a:ext cx="7925040" cy="2133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olids and Liq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particles cannot mov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brational motion (sol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brational, rotational, and translational motion (liqu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34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352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ble to mov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on is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lational motion is most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Forces Between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les are held together by strong attractive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scribe and compare the relative attractive forces between particles in solids, liquids and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rength of attractive forces between particles 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of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ypes of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Charged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static attraction e.g. ionic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Polar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olecular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pole-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Non-Polar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don forces (temporary dip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 and 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size (forces add 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to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hea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les move faster and have mor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kinetic energy (helps to overcome attractive fo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up more space making the object exp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coo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Kinetic Molecular Theory of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the Kinetic Molecular Theory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KMT describes a hypothetical gas called an ide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al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05:58Z</dcterms:created>
  <dc:creator>Fiona Smith</dc:creator>
  <dc:description/>
  <dc:language>en-US</dc:language>
  <cp:lastModifiedBy>TCDSB</cp:lastModifiedBy>
  <dcterms:modified xsi:type="dcterms:W3CDTF">2013-12-15T17:10:56Z</dcterms:modified>
  <cp:revision>14</cp:revision>
  <dc:subject/>
  <dc:title>Particle Theory and the Kinetic Molecular Theory</dc:title>
</cp:coreProperties>
</file>